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90CC-4DF1-44C9-85DF-5FEE173E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2D77-D63D-48BE-80B9-72F70302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846B-3559-45A9-A762-A131C5CC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4CEC-29DA-4B7E-812E-54557F1F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F02-7CB0-43DF-A2D5-1C5ED5F3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EC7-D82C-4AAB-B540-3127D400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5E08-4B01-42D1-B629-3DDE190A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AB2B-4FDB-4D7E-9ACF-C7FF536D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7D37-6FAB-403C-81BF-81FD28A2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6F30-3E32-492A-AD7A-30428B40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EB4-3C2D-4F5B-8221-5EED4BEB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5C98-2402-4C88-BA07-AAA1FBEB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A0B1-A82D-4B5D-AD6E-204492360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838080"/>
            <a:ext cx="4800600" cy="441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3962520"/>
            <a:ext cx="198108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05720" y="5791320"/>
            <a:ext cx="19810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14400" y="3870360"/>
            <a:ext cx="685440" cy="914040"/>
            <a:chOff x="914400" y="3870360"/>
            <a:chExt cx="685440" cy="914040"/>
          </a:xfrm>
        </p:grpSpPr>
        <p:sp>
          <p:nvSpPr>
            <p:cNvPr id="45" name=""/>
            <p:cNvSpPr/>
            <p:nvPr/>
          </p:nvSpPr>
          <p:spPr>
            <a:xfrm>
              <a:off x="914400" y="3870360"/>
              <a:ext cx="34272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7480" y="3870360"/>
              <a:ext cx="342360" cy="914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5791320" y="4648320"/>
            <a:ext cx="761760" cy="533160"/>
          </a:xfrm>
          <a:prstGeom prst="rect">
            <a:avLst/>
          </a:prstGeom>
          <a:solidFill>
            <a:srgbClr val="d3ed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036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64360" y="2786040"/>
            <a:ext cx="70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x-mixer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50520" y="2787480"/>
            <a:ext cx="69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-mixer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6360" y="5622840"/>
            <a:ext cx="215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     x cos(rotation) + y sin(rotation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*    takes care of z off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00" y="90360"/>
            <a:ext cx="88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E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              for fast cantilever tracking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76560" y="97488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gle &gt; di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0120" y="1371600"/>
            <a:ext cx="914400" cy="609480"/>
          </a:xfrm>
          <a:prstGeom prst="rect">
            <a:avLst/>
          </a:prstGeom>
          <a:solidFill>
            <a:srgbClr val="eed0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40640" y="281952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06760" y="28036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45200" y="28036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7960" y="4784760"/>
            <a:ext cx="1346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C1 -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tilever mo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7800" y="4784760"/>
            <a:ext cx="177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C2 - drive signal + trig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62240" y="150804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scillo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60080" y="3962520"/>
            <a:ext cx="102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eak out 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74560" y="5927760"/>
            <a:ext cx="92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 controll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30560" y="4632480"/>
            <a:ext cx="64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P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 kH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14400" y="1219320"/>
            <a:ext cx="3885840" cy="1523880"/>
            <a:chOff x="914400" y="1219320"/>
            <a:chExt cx="3885840" cy="1523880"/>
          </a:xfrm>
        </p:grpSpPr>
        <p:grpSp>
          <p:nvGrpSpPr>
            <p:cNvPr id="65" name=""/>
            <p:cNvGrpSpPr/>
            <p:nvPr/>
          </p:nvGrpSpPr>
          <p:grpSpPr>
            <a:xfrm>
              <a:off x="914400" y="1219320"/>
              <a:ext cx="3885840" cy="1523880"/>
              <a:chOff x="914400" y="1219320"/>
              <a:chExt cx="3885840" cy="152388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914400" y="1219320"/>
                <a:ext cx="3885840" cy="1523520"/>
                <a:chOff x="914400" y="1219320"/>
                <a:chExt cx="3885840" cy="152352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914400" y="1219320"/>
                  <a:ext cx="42192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589760" y="1219320"/>
                  <a:ext cx="42264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110400" y="1219320"/>
                  <a:ext cx="42264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33040" y="1219320"/>
                  <a:ext cx="42192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955320" y="1219320"/>
                  <a:ext cx="42192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377600" y="1219320"/>
                  <a:ext cx="422640" cy="152352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3962520" y="1219320"/>
                <a:ext cx="0" cy="1523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1066680" y="1371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17524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21337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66680" y="25146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1717560" y="1371600"/>
              <a:ext cx="152640" cy="1295280"/>
              <a:chOff x="1717560" y="1371600"/>
              <a:chExt cx="152640" cy="1295280"/>
            </a:xfrm>
          </p:grpSpPr>
          <p:sp>
            <p:nvSpPr>
              <p:cNvPr id="79" name=""/>
              <p:cNvSpPr/>
              <p:nvPr/>
            </p:nvSpPr>
            <p:spPr>
              <a:xfrm>
                <a:off x="1717560" y="13716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717560" y="175248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717560" y="2133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17560" y="25146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3276720" y="1371600"/>
              <a:ext cx="152280" cy="1295280"/>
              <a:chOff x="3276720" y="1371600"/>
              <a:chExt cx="152280" cy="1295280"/>
            </a:xfrm>
          </p:grpSpPr>
          <p:sp>
            <p:nvSpPr>
              <p:cNvPr id="84" name=""/>
              <p:cNvSpPr/>
              <p:nvPr/>
            </p:nvSpPr>
            <p:spPr>
              <a:xfrm>
                <a:off x="3276720" y="1371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276720" y="175248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276720" y="2133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276720" y="2514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3657600" y="1371600"/>
              <a:ext cx="152280" cy="1295280"/>
              <a:chOff x="3657600" y="1371600"/>
              <a:chExt cx="152280" cy="1295280"/>
            </a:xfrm>
          </p:grpSpPr>
          <p:sp>
            <p:nvSpPr>
              <p:cNvPr id="89" name=""/>
              <p:cNvSpPr/>
              <p:nvPr/>
            </p:nvSpPr>
            <p:spPr>
              <a:xfrm>
                <a:off x="3657600" y="1371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657600" y="175248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657600" y="2133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657600" y="2514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14800" y="1371600"/>
              <a:ext cx="152280" cy="1295280"/>
              <a:chOff x="4114800" y="1371600"/>
              <a:chExt cx="152280" cy="1295280"/>
            </a:xfrm>
          </p:grpSpPr>
          <p:sp>
            <p:nvSpPr>
              <p:cNvPr id="94" name=""/>
              <p:cNvSpPr/>
              <p:nvPr/>
            </p:nvSpPr>
            <p:spPr>
              <a:xfrm>
                <a:off x="4114800" y="1371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114800" y="175248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14800" y="21337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114800" y="25146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495680" y="1371600"/>
              <a:ext cx="152640" cy="1295280"/>
              <a:chOff x="4495680" y="1371600"/>
              <a:chExt cx="152640" cy="1295280"/>
            </a:xfrm>
          </p:grpSpPr>
          <p:sp>
            <p:nvSpPr>
              <p:cNvPr id="99" name=""/>
              <p:cNvSpPr/>
              <p:nvPr/>
            </p:nvSpPr>
            <p:spPr>
              <a:xfrm>
                <a:off x="4495680" y="13716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495680" y="1752480"/>
                <a:ext cx="15264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495680" y="21337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495680" y="25146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990720" y="402264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402264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6920" y="1278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71720" y="166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6920" y="20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6920" y="2422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33320" y="4267080"/>
            <a:ext cx="138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a 1 – driving 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43434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48006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48720" y="4724280"/>
            <a:ext cx="188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n</a:t>
            </a: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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- cantilever movement</a:t>
            </a: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60199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96240" y="5943600"/>
            <a:ext cx="87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e trigger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7240" y="2041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7240" y="24224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17524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5029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5029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93560" y="5699160"/>
            <a:ext cx="1678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1: X amplified &gt;m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2: y amplified &gt; ~ 1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 amplifier: ~1/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94" idx="0"/>
            <a:endCxn id="110" idx="1"/>
          </p:cNvCxnSpPr>
          <p:nvPr/>
        </p:nvCxnSpPr>
        <p:spPr>
          <a:xfrm flipH="1" rot="16200000">
            <a:off x="4038840" y="1523880"/>
            <a:ext cx="2994480" cy="2689560"/>
          </a:xfrm>
          <a:prstGeom prst="bentConnector3">
            <a:avLst>
              <a:gd name="adj1" fmla="val -7743"/>
            </a:avLst>
          </a:prstGeom>
          <a:ln w="25560">
            <a:solidFill>
              <a:srgbClr val="33ccff"/>
            </a:solidFill>
            <a:miter/>
          </a:ln>
        </p:spPr>
      </p:cxnSp>
      <p:cxnSp>
        <p:nvCxnSpPr>
          <p:cNvPr id="122" name=""/>
          <p:cNvCxnSpPr>
            <a:stCxn id="97" idx="5"/>
            <a:endCxn id="118" idx="1"/>
          </p:cNvCxnSpPr>
          <p:nvPr/>
        </p:nvCxnSpPr>
        <p:spPr>
          <a:xfrm flipH="1" rot="16200000">
            <a:off x="3863880" y="3025440"/>
            <a:ext cx="2396160" cy="1634040"/>
          </a:xfrm>
          <a:prstGeom prst="bentConnector3">
            <a:avLst>
              <a:gd name="adj1" fmla="val 50232"/>
            </a:avLst>
          </a:prstGeom>
          <a:ln w="31680">
            <a:solidFill>
              <a:srgbClr val="f8ff6b"/>
            </a:solidFill>
            <a:miter/>
          </a:ln>
        </p:spPr>
      </p:cxnSp>
      <p:cxnSp>
        <p:nvCxnSpPr>
          <p:cNvPr id="123" name=""/>
          <p:cNvCxnSpPr>
            <a:stCxn id="111" idx="4"/>
            <a:endCxn id="119" idx="6"/>
          </p:cNvCxnSpPr>
          <p:nvPr/>
        </p:nvCxnSpPr>
        <p:spPr>
          <a:xfrm rot="5400000">
            <a:off x="6610320" y="4743360"/>
            <a:ext cx="114840" cy="53388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24" name=""/>
          <p:cNvCxnSpPr>
            <a:stCxn id="113" idx="1"/>
            <a:endCxn id="95" idx="2"/>
          </p:cNvCxnSpPr>
          <p:nvPr/>
        </p:nvCxnSpPr>
        <p:spPr>
          <a:xfrm rot="10800000">
            <a:off x="4114800" y="1828800"/>
            <a:ext cx="2765880" cy="4213800"/>
          </a:xfrm>
          <a:prstGeom prst="bentConnector3">
            <a:avLst>
              <a:gd name="adj1" fmla="val 108383"/>
            </a:avLst>
          </a:prstGeom>
          <a:ln w="22320">
            <a:solidFill>
              <a:srgbClr val="003366"/>
            </a:solidFill>
            <a:miter/>
          </a:ln>
        </p:spPr>
      </p:cxnSp>
      <p:cxnSp>
        <p:nvCxnSpPr>
          <p:cNvPr id="125" name=""/>
          <p:cNvCxnSpPr>
            <a:stCxn id="74" idx="0"/>
            <a:endCxn id="84" idx="0"/>
          </p:cNvCxnSpPr>
          <p:nvPr/>
        </p:nvCxnSpPr>
        <p:spPr>
          <a:xfrm rot="16200000">
            <a:off x="2247840" y="266400"/>
            <a:ext cx="360" cy="2210400"/>
          </a:xfrm>
          <a:prstGeom prst="bentConnector3">
            <a:avLst>
              <a:gd name="adj1" fmla="val -64400000"/>
            </a:avLst>
          </a:prstGeom>
          <a:ln w="25560">
            <a:solidFill>
              <a:srgbClr val="ff6600"/>
            </a:solidFill>
            <a:miter/>
          </a:ln>
        </p:spPr>
      </p:cxnSp>
      <p:cxnSp>
        <p:nvCxnSpPr>
          <p:cNvPr id="126" name=""/>
          <p:cNvCxnSpPr>
            <a:stCxn id="75" idx="2"/>
            <a:endCxn id="104" idx="0"/>
          </p:cNvCxnSpPr>
          <p:nvPr/>
        </p:nvCxnSpPr>
        <p:spPr>
          <a:xfrm flipH="1" flipV="1" rot="10800000">
            <a:off x="1066320" y="1828800"/>
            <a:ext cx="381600" cy="2194200"/>
          </a:xfrm>
          <a:prstGeom prst="bentConnector4">
            <a:avLst>
              <a:gd name="adj1" fmla="val -60812"/>
              <a:gd name="adj2" fmla="val 51739"/>
            </a:avLst>
          </a:prstGeom>
          <a:ln w="28440">
            <a:solidFill>
              <a:srgbClr val="ff07be"/>
            </a:solidFill>
            <a:miter/>
          </a:ln>
        </p:spPr>
      </p:cxnSp>
      <p:cxnSp>
        <p:nvCxnSpPr>
          <p:cNvPr id="127" name=""/>
          <p:cNvCxnSpPr>
            <a:stCxn id="99" idx="2"/>
            <a:endCxn id="77" idx="3"/>
          </p:cNvCxnSpPr>
          <p:nvPr/>
        </p:nvCxnSpPr>
        <p:spPr>
          <a:xfrm flipV="1" rot="10800000">
            <a:off x="1088640" y="1447920"/>
            <a:ext cx="3407040" cy="1197000"/>
          </a:xfrm>
          <a:prstGeom prst="bentConnector3">
            <a:avLst>
              <a:gd name="adj1" fmla="val 107460"/>
            </a:avLst>
          </a:prstGeom>
          <a:ln w="2232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00" idx="6"/>
            <a:endCxn id="76" idx="5"/>
          </p:cNvCxnSpPr>
          <p:nvPr/>
        </p:nvCxnSpPr>
        <p:spPr>
          <a:xfrm flipH="1">
            <a:off x="1197000" y="1828800"/>
            <a:ext cx="3451680" cy="435240"/>
          </a:xfrm>
          <a:prstGeom prst="bentConnector3">
            <a:avLst>
              <a:gd name="adj1" fmla="val -6717"/>
            </a:avLst>
          </a:prstGeom>
          <a:ln w="22320">
            <a:solidFill>
              <a:srgbClr val="ff0000"/>
            </a:solidFill>
            <a:miter/>
          </a:ln>
        </p:spPr>
      </p:cxnSp>
      <p:cxnSp>
        <p:nvCxnSpPr>
          <p:cNvPr id="129" name=""/>
          <p:cNvCxnSpPr>
            <a:stCxn id="117" idx="2"/>
            <a:endCxn id="89" idx="7"/>
          </p:cNvCxnSpPr>
          <p:nvPr/>
        </p:nvCxnSpPr>
        <p:spPr>
          <a:xfrm rot="10800000">
            <a:off x="3787200" y="1393920"/>
            <a:ext cx="3908880" cy="435240"/>
          </a:xfrm>
          <a:prstGeom prst="bentConnector3">
            <a:avLst>
              <a:gd name="adj1" fmla="val 4971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82" idx="4"/>
            <a:endCxn id="102" idx="6"/>
          </p:cNvCxnSpPr>
          <p:nvPr/>
        </p:nvCxnSpPr>
        <p:spPr>
          <a:xfrm flipH="1" flipV="1" rot="5400000">
            <a:off x="3182760" y="1201680"/>
            <a:ext cx="76320" cy="2854800"/>
          </a:xfrm>
          <a:prstGeom prst="bentConnector4">
            <a:avLst>
              <a:gd name="adj1" fmla="val -304739"/>
              <a:gd name="adj2" fmla="val 1081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79" idx="6"/>
            <a:endCxn id="103" idx="3"/>
          </p:cNvCxnSpPr>
          <p:nvPr/>
        </p:nvCxnSpPr>
        <p:spPr>
          <a:xfrm flipH="1">
            <a:off x="1013040" y="1447920"/>
            <a:ext cx="857520" cy="2705400"/>
          </a:xfrm>
          <a:prstGeom prst="bentConnector4">
            <a:avLst>
              <a:gd name="adj1" fmla="val -27047"/>
              <a:gd name="adj2" fmla="val 109395"/>
            </a:avLst>
          </a:prstGeom>
          <a:ln w="25560">
            <a:solidFill>
              <a:srgbClr val="29ff29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3126240" y="280368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40640" y="281952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35160" y="97308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 &gt; sing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6:55:21Z</dcterms:created>
  <dc:creator>Jensenius</dc:creator>
  <dc:description/>
  <dc:language>en-US</dc:language>
  <cp:lastModifiedBy>Jensenius</cp:lastModifiedBy>
  <dcterms:modified xsi:type="dcterms:W3CDTF">2005-02-16T10:26:27Z</dcterms:modified>
  <cp:revision>6</cp:revision>
  <dc:subject/>
  <dc:title>Slide 1</dc:title>
</cp:coreProperties>
</file>